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2CE-3A6F-455E-B5B2-5BBFBCCA7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9CA0-764A-43BE-943C-83FDCE4F75D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some sample charts and graphs, then show people where to go to mak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92EC-FB0F-430B-987E-D404E8D61171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some sample charts and graphs, then show people where to go to mak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595B-E92D-4E52-B898-F98084E60F17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BB6F-E28A-44CB-9BCF-3633337D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F9BA-04C0-4944-AD6F-560E7F18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0B04-C46A-4F5B-8C04-7EE13ED22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D353-3DC4-49DB-89D8-9F23D7905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4181-6A7C-4F4F-9520-5ED01B4B5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3C3D-85C7-4694-916E-ADE701C3C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D38A-98BF-4AC4-8E1C-B45504E1C9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812A-913E-4954-890B-0BDB5FD94A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733C-F0F0-4737-9E7C-2C966AE86F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D876-4CEC-45B1-AD1B-B2C0B553EA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65C2-A7CA-4904-A591-D83DC21B9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2FDC-FD2B-4A35-BA36-7F85BFBA4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C7F1-1E7F-4C5C-9699-82D2AD726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B906-195C-4A72-B6E5-B5A8236D83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4356-C820-4AC7-B2CF-71D016A84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D137-DD41-40F1-80B7-4504FDBB5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2605-ADD6-4428-BC96-D03C862D17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8186-A91F-4E2F-8C87-7AB3948210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78A4-A2B6-456D-AF45-3B4FED9C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12C4-94C7-40E6-997D-CEA9287A5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669-D61A-4EDA-94FA-13233148E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A55E-FE97-4E60-BF4D-6B6C2364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3E20-87AC-4B1F-8767-EDE860E25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E395-C7B3-4EC1-B3E5-679CF231A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6334-E7C7-49BF-95E8-CE5C1C3CE329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93D-263E-4752-BDB9-DDF5B59192C5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Selling Your Programs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7620120"/>
            <a:ext cx="124966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Ashley Pinedo, National Training Director, @ashleyp44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erception is rea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1496880" y="1981080"/>
            <a:ext cx="10134720" cy="1181160"/>
          </a:xfrm>
          <a:prstGeom prst="roundRect">
            <a:avLst>
              <a:gd name="adj" fmla="val 14037"/>
            </a:avLst>
          </a:prstGeom>
          <a:solidFill>
            <a:srgbClr val="dbd9d6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hotos keep your program on people’s rad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2639880" y="3314880"/>
            <a:ext cx="762012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erception is rea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Rounded Rectangle 15"/>
          <p:cNvSpPr/>
          <p:nvPr/>
        </p:nvSpPr>
        <p:spPr>
          <a:xfrm>
            <a:off x="1496880" y="1981080"/>
            <a:ext cx="10134720" cy="1181160"/>
          </a:xfrm>
          <a:prstGeom prst="roundRect">
            <a:avLst>
              <a:gd name="adj" fmla="val 14037"/>
            </a:avLst>
          </a:prstGeom>
          <a:solidFill>
            <a:srgbClr val="56565a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Charts and graphs prove your program’s wort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Picture 1" descr="Screen Shot 2014-01-27 at 11.11.00 PM.png"/>
          <p:cNvPicPr/>
          <p:nvPr/>
        </p:nvPicPr>
        <p:blipFill>
          <a:blip r:embed="rId1"/>
          <a:stretch/>
        </p:blipFill>
        <p:spPr>
          <a:xfrm>
            <a:off x="596880" y="3352680"/>
            <a:ext cx="11773080" cy="53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erception is rea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ounded Rectangle 15"/>
          <p:cNvSpPr/>
          <p:nvPr/>
        </p:nvSpPr>
        <p:spPr>
          <a:xfrm>
            <a:off x="1496880" y="1981080"/>
            <a:ext cx="10134720" cy="1181160"/>
          </a:xfrm>
          <a:prstGeom prst="roundRect">
            <a:avLst>
              <a:gd name="adj" fmla="val 14037"/>
            </a:avLst>
          </a:prstGeom>
          <a:solidFill>
            <a:srgbClr val="56565a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Charts and graphs prove your program’s wort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Picture 2" descr="Screen Shot 2014-01-27 at 11.11.59 PM.png"/>
          <p:cNvPicPr/>
          <p:nvPr/>
        </p:nvPicPr>
        <p:blipFill>
          <a:blip r:embed="rId1"/>
          <a:stretch/>
        </p:blipFill>
        <p:spPr>
          <a:xfrm>
            <a:off x="1625760" y="3200400"/>
            <a:ext cx="9905760" cy="57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87320" y="3166920"/>
            <a:ext cx="68896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Selling Your Programs Befo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mplifying Your Programs Af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Debrief and Key Takeaway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Work Time: Spruce Up Your Pit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31960" y="2709720"/>
            <a:ext cx="1138536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Problem, Impact, Solution, Outco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Know your aud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A little fancy chart or graph goes a long 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Always be ready to talk up your progra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Key takeaway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Training-let us make it better 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787320" y="228600"/>
            <a:ext cx="11430000" cy="734040"/>
          </a:xfrm>
          <a:prstGeom prst="rect">
            <a:avLst/>
          </a:prstGeom>
          <a:solidFill>
            <a:srgbClr val="0c3b6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Embody excellenc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787320" y="3166920"/>
            <a:ext cx="68896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Selling Your Programs Befo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mplifying Your Programs Af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Debrief and Key Takeaway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Work Time: Spruce Up Your Pit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Why do we have to sell our program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558720" y="3429000"/>
            <a:ext cx="3478320" cy="3200400"/>
            <a:chOff x="558720" y="3429000"/>
            <a:chExt cx="3478320" cy="3200400"/>
          </a:xfrm>
        </p:grpSpPr>
        <p:sp>
          <p:nvSpPr>
            <p:cNvPr id="136" name="Rectangle 17"/>
            <p:cNvSpPr/>
            <p:nvPr/>
          </p:nvSpPr>
          <p:spPr>
            <a:xfrm>
              <a:off x="558720" y="3429000"/>
              <a:ext cx="3478320" cy="3200400"/>
            </a:xfrm>
            <a:prstGeom prst="rect">
              <a:avLst/>
            </a:prstGeom>
            <a:solidFill>
              <a:srgbClr val="0c3b60"/>
            </a:solidFill>
            <a:ln w="25560">
              <a:solidFill>
                <a:srgbClr val="0c3b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>
              <a:off x="558720" y="3429000"/>
              <a:ext cx="34783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960" rIns="255960" tIns="146160" bIns="146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Decision Makers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4816440" y="3429000"/>
            <a:ext cx="3476520" cy="3200400"/>
            <a:chOff x="4816440" y="3429000"/>
            <a:chExt cx="3476520" cy="3200400"/>
          </a:xfrm>
        </p:grpSpPr>
        <p:sp>
          <p:nvSpPr>
            <p:cNvPr id="139" name="Rectangle 15"/>
            <p:cNvSpPr/>
            <p:nvPr/>
          </p:nvSpPr>
          <p:spPr>
            <a:xfrm>
              <a:off x="4816440" y="3429000"/>
              <a:ext cx="3476520" cy="3200400"/>
            </a:xfrm>
            <a:prstGeom prst="rect">
              <a:avLst/>
            </a:prstGeom>
            <a:solidFill>
              <a:srgbClr val="6f1599"/>
            </a:solidFill>
            <a:ln w="25560">
              <a:solidFill>
                <a:srgbClr val="6f1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816440" y="3429000"/>
              <a:ext cx="3476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960" rIns="255960" tIns="146160" bIns="146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Doers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9072720" y="3429000"/>
            <a:ext cx="3477960" cy="3200400"/>
            <a:chOff x="9072720" y="3429000"/>
            <a:chExt cx="3477960" cy="3200400"/>
          </a:xfrm>
        </p:grpSpPr>
        <p:sp>
          <p:nvSpPr>
            <p:cNvPr id="142" name="Rectangle 13"/>
            <p:cNvSpPr/>
            <p:nvPr/>
          </p:nvSpPr>
          <p:spPr>
            <a:xfrm>
              <a:off x="9072720" y="3429000"/>
              <a:ext cx="3477960" cy="3200400"/>
            </a:xfrm>
            <a:prstGeom prst="rect">
              <a:avLst/>
            </a:prstGeom>
            <a:solidFill>
              <a:srgbClr val="d0202e"/>
            </a:solidFill>
            <a:ln w="25560">
              <a:solidFill>
                <a:srgbClr val="d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9072720" y="3429000"/>
              <a:ext cx="347796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960" rIns="255960" tIns="146160" bIns="146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heerleaders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4" name="Oval 1"/>
          <p:cNvSpPr/>
          <p:nvPr/>
        </p:nvSpPr>
        <p:spPr>
          <a:xfrm>
            <a:off x="152280" y="3429000"/>
            <a:ext cx="4216680" cy="3200400"/>
          </a:xfrm>
          <a:prstGeom prst="ellipse">
            <a:avLst/>
          </a:prstGeom>
          <a:noFill/>
          <a:ln w="127080">
            <a:solidFill>
              <a:srgbClr val="0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30320" y="286236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Understand the importance of selling your programs both before and after they hap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Goals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Oval 35"/>
          <p:cNvSpPr/>
          <p:nvPr/>
        </p:nvSpPr>
        <p:spPr>
          <a:xfrm>
            <a:off x="863640" y="304812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Oval 36"/>
          <p:cNvSpPr/>
          <p:nvPr/>
        </p:nvSpPr>
        <p:spPr>
          <a:xfrm>
            <a:off x="863640" y="432576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Oval 37"/>
          <p:cNvSpPr/>
          <p:nvPr/>
        </p:nvSpPr>
        <p:spPr>
          <a:xfrm>
            <a:off x="863640" y="560232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Oval 38"/>
          <p:cNvSpPr/>
          <p:nvPr/>
        </p:nvSpPr>
        <p:spPr>
          <a:xfrm>
            <a:off x="863640" y="7031160"/>
            <a:ext cx="762120" cy="76176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930320" y="428472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Be able to use PISO to describe your training progra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930320" y="555480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Gain some tricks up your sleeve to impress your team’s leadershi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930320" y="697716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eel confident about messaging your programs to different audie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787320" y="3166920"/>
            <a:ext cx="68896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Selling Your Programs Befo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mplifying Your Programs Af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Debrief and Key Takeaway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Work Time: Spruce Up Your Pit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831960" y="1981080"/>
            <a:ext cx="53658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Turn to your neighbor and imagine s/he is the State Director of OFA-CO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Give the State Director a 30-second elevator pitch of your program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itch your program to your neighb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rcRect l="6180" t="0" r="8892" b="0"/>
          <a:stretch/>
        </p:blipFill>
        <p:spPr>
          <a:xfrm>
            <a:off x="6426360" y="3200400"/>
            <a:ext cx="56340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791400" y="3352680"/>
            <a:ext cx="536580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56565a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lways be on messag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lways be ready to answer questions about your program – and then get back on messag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787320" y="762120"/>
            <a:ext cx="1143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Three tips for selling your programs to senior leadershi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ounded Rectangle 11"/>
          <p:cNvSpPr/>
          <p:nvPr/>
        </p:nvSpPr>
        <p:spPr>
          <a:xfrm>
            <a:off x="6654960" y="2476440"/>
            <a:ext cx="5638680" cy="841320"/>
          </a:xfrm>
          <a:prstGeom prst="roundRect">
            <a:avLst>
              <a:gd name="adj" fmla="val 14037"/>
            </a:avLst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2. Overprepare to impres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ounded Rectangle 13"/>
          <p:cNvSpPr/>
          <p:nvPr/>
        </p:nvSpPr>
        <p:spPr>
          <a:xfrm>
            <a:off x="558720" y="2487600"/>
            <a:ext cx="5639040" cy="841320"/>
          </a:xfrm>
          <a:prstGeom prst="roundRect">
            <a:avLst>
              <a:gd name="adj" fmla="val 14037"/>
            </a:avLst>
          </a:prstGeom>
          <a:solidFill>
            <a:srgbClr val="0c3b60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1. PISO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679320" y="3325680"/>
            <a:ext cx="536580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State the </a:t>
            </a:r>
            <a:r>
              <a:rPr b="1" lang="en-US" sz="3400" spc="-1" strike="noStrike" u="sng">
                <a:solidFill>
                  <a:srgbClr val="56565a"/>
                </a:solidFill>
                <a:uFillTx/>
                <a:latin typeface="Arial"/>
                <a:ea typeface="MS PGothic"/>
              </a:rPr>
              <a:t>P</a:t>
            </a: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roble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State the </a:t>
            </a:r>
            <a:r>
              <a:rPr b="1" lang="en-US" sz="3400" spc="-1" strike="noStrike" u="sng">
                <a:solidFill>
                  <a:srgbClr val="56565a"/>
                </a:solidFill>
                <a:uFillTx/>
                <a:latin typeface="Arial"/>
                <a:ea typeface="MS PGothic"/>
              </a:rPr>
              <a:t>I</a:t>
            </a: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mpac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Propose the </a:t>
            </a:r>
            <a:r>
              <a:rPr b="1" lang="en-US" sz="3400" spc="-1" strike="noStrike" u="sng">
                <a:solidFill>
                  <a:srgbClr val="56565a"/>
                </a:solidFill>
                <a:uFillTx/>
                <a:latin typeface="Arial"/>
                <a:ea typeface="MS PGothic"/>
              </a:rPr>
              <a:t>S</a:t>
            </a: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olution (your program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llustrate the </a:t>
            </a:r>
            <a:r>
              <a:rPr b="1" lang="en-US" sz="3400" spc="-1" strike="noStrike" u="sng">
                <a:solidFill>
                  <a:srgbClr val="56565a"/>
                </a:solidFill>
                <a:uFillTx/>
                <a:latin typeface="Arial"/>
                <a:ea typeface="MS PGothic"/>
              </a:rPr>
              <a:t>O</a:t>
            </a: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utco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5656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ounded Rectangle 12"/>
          <p:cNvSpPr/>
          <p:nvPr/>
        </p:nvSpPr>
        <p:spPr>
          <a:xfrm>
            <a:off x="635040" y="7848720"/>
            <a:ext cx="11734920" cy="838080"/>
          </a:xfrm>
          <a:prstGeom prst="roundRect">
            <a:avLst>
              <a:gd name="adj" fmla="val 14037"/>
            </a:avLst>
          </a:prstGeom>
          <a:solidFill>
            <a:srgbClr val="d0202e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3. Know your audienc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 – or none of this will work!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831960" y="1981080"/>
            <a:ext cx="53658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Turn to your neighbor and imagine s/he is the State Director of OFA-CO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Give the State Director a 30-second elevator pitch of your program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Try it again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rcRect l="6180" t="0" r="8892" b="0"/>
          <a:stretch/>
        </p:blipFill>
        <p:spPr>
          <a:xfrm>
            <a:off x="6426360" y="3200400"/>
            <a:ext cx="56340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87320" y="3166920"/>
            <a:ext cx="68896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Introduction and Goal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Selling Your Programs Befo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Amplifying Your Programs Af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Debrief and Key Takeaway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50000"/>
              </a:lnSpc>
              <a:buClr>
                <a:srgbClr val="56565a"/>
              </a:buClr>
              <a:buSzPct val="171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</a:rPr>
              <a:t>Work Time: Spruce Up Your Pit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7988400" y="2895480"/>
            <a:ext cx="430524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ヒラギノ角ゴ ProN W3"/>
              </a:rPr>
              <a:t>Perception is rea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701720" y="2209680"/>
            <a:ext cx="93726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an Griffin</dc:creator>
  <dc:description/>
  <cp:keywords/>
  <dc:language>en-US</dc:language>
  <cp:lastModifiedBy>aconavay@ofa.us</cp:lastModifiedBy>
  <dcterms:modified xsi:type="dcterms:W3CDTF">2019-03-05T18:19:21Z</dcterms:modified>
  <cp:revision>85</cp:revision>
  <dc:subject/>
  <dc:title>PowerPoint Presentation</dc:title>
</cp:coreProperties>
</file>