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C06-61BA-4CE0-AD9D-371FD15B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451-2550-4FEF-B05D-5FA06E554FF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ling team gi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7A4A-1054-4052-928C-97AD25F2D62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583B-2645-4C4D-B1D1-BA3976B0A88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y and Michelle’s high school reun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AAA-7AA9-4057-8A31-2E097531617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n leads in to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D80-A309-4F8E-9C27-AA6CFD70DA17}" type="slidenum">
              <a:rPr b="0" lang="en-US" sz="1200" spc="-1" strike="noStrike">
                <a:solidFill>
                  <a:srgbClr val="ffffff"/>
                </a:solidFill>
                <a:latin typeface="Gill Sans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this slide to be a regroup. Pair and share or popcorn. Share their funny ski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0C1-9296-46DE-99AC-C46290D8E91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ra describe what happens in the next session . Any ques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212-4993-4352-9C7B-01B553B5738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photos (Justin is look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CD9-5D81-4D25-8EDA-A9A03C3CA6F9}" type="slidenum">
              <a:rPr b="0" lang="en-US" sz="1200" spc="-1" strike="noStrike">
                <a:solidFill>
                  <a:srgbClr val="ffffff"/>
                </a:solidFill>
                <a:latin typeface="Gill Sans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twitter pho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03E-FD92-441E-A37B-B30F420655B8}" type="slidenum">
              <a:rPr b="0" lang="en-US" sz="1200" spc="-1" strike="noStrike">
                <a:solidFill>
                  <a:srgbClr val="ffffff"/>
                </a:solidFill>
                <a:latin typeface="Gill Sans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udience. Who’s trained someone on technical what were the challenges they fac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23C4-CD6A-4F11-872F-C661A846160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92BF-47F5-4FB6-8FA6-BADF7BB37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B634-713E-4188-BB43-0E763D41F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A363-D6D4-4780-8254-23CD914B3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25D7-C27C-4B47-8D75-45B24A856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7EFB-1615-4B89-91B4-C7F80F94C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A6F2-53BC-4B7F-9B47-1D1EF07BC4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107B-DB86-46BC-B165-152F11A66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4E81-A3D4-46D9-8A88-4FDEB0098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19F8-6468-4EE3-8261-E4AF2CF017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3452-AE8A-43F3-8A89-BC9DAD526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6463-331E-4120-AAC9-EBC292F4C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2394-DE32-4CD4-965B-C57DE393D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2998-0372-461F-9783-6DA1D9926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0FEB-038B-4F09-A1F0-6791613359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0121-7C15-4E56-B912-6FB7B45949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52D9-F835-49C0-987B-23E6183774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53D1-64F0-41F5-B0F0-30A9A896C7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DF4C-35AE-4DFE-AB94-9F5694F08A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3E63-9827-48A4-89A6-9867EB997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C2D7-6C95-417A-9A74-A23277BD9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E9D9-09FA-4E3A-ABB3-E5D27E504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45C1-13D9-4846-A14F-7797DD42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C737-EA80-4293-9F59-99F193DA2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D490-F06F-4A85-B429-D2FB3ED89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3A12-23C9-42CD-934F-F57898B5DF3A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0A0-CEEB-4AE6-984E-AEC2431C2160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791320"/>
            <a:ext cx="1300320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6565a"/>
                </a:solidFill>
                <a:latin typeface="Arial"/>
              </a:rPr>
              <a:t>Preparing to Train, Pt 1: Fundamentals of Tech Training</a:t>
            </a:r>
            <a:br>
              <a:rPr sz="3800"/>
            </a:br>
            <a:r>
              <a:rPr b="0" lang="en-US" sz="3800" spc="-1" strike="noStrike">
                <a:solidFill>
                  <a:srgbClr val="56565a"/>
                </a:solidFill>
                <a:latin typeface="Arial"/>
              </a:rPr>
              <a:t>(Data and Digital Track)</a:t>
            </a:r>
            <a:endParaRPr b="1" lang="en-US" sz="3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772040"/>
            <a:ext cx="1300320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0000"/>
          </a:bodyPr>
          <a:p>
            <a:pPr marL="159840" indent="0" algn="ctr">
              <a:lnSpc>
                <a:spcPct val="6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56565a"/>
                </a:solidFill>
                <a:latin typeface="Arial"/>
              </a:rPr>
              <a:t>Justin Sommer, Deputy Data Manager, @JustSommer</a:t>
            </a:r>
            <a:endParaRPr b="0" lang="en-US" sz="3400" spc="-1" strike="noStrike">
              <a:solidFill>
                <a:srgbClr val="56565a"/>
              </a:solidFill>
              <a:latin typeface="Arial"/>
            </a:endParaRPr>
          </a:p>
          <a:p>
            <a:pPr marL="159840" indent="0" algn="ctr">
              <a:lnSpc>
                <a:spcPct val="6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56565a"/>
                </a:solidFill>
                <a:latin typeface="Arial"/>
              </a:rPr>
              <a:t>Debra Cohen, Digital Program Coordinator, @DH_Cohen</a:t>
            </a:r>
            <a:endParaRPr b="0" lang="en-US" sz="34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831960" y="2895480"/>
            <a:ext cx="6813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Know your audie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Choose your topic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Personal work ti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Debrief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9E8-CAA9-4693-B379-05E64F265C05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53880" y="2066760"/>
            <a:ext cx="3057480" cy="1621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1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353880" y="5254560"/>
            <a:ext cx="3057480" cy="1621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2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200" y="325440"/>
            <a:ext cx="1170468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Finding the right activity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327560" y="2066760"/>
            <a:ext cx="7477200" cy="262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327560" y="5202360"/>
            <a:ext cx="5059440" cy="3346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8561520" y="3878280"/>
            <a:ext cx="4097160" cy="811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Identify the goa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8561520" y="7737480"/>
            <a:ext cx="4097160" cy="811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Choose an activity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E3E-DF6B-4C51-A726-532EA49A9FF2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99960" y="2108160"/>
            <a:ext cx="2354400" cy="1216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1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425520" y="3984480"/>
            <a:ext cx="2354040" cy="121464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2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325440"/>
            <a:ext cx="1170468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What we need your help with most…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8255160" y="3306600"/>
            <a:ext cx="4573440" cy="3025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3468600" y="2108160"/>
            <a:ext cx="4097520" cy="811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Identify the goa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468600" y="3984480"/>
            <a:ext cx="4097520" cy="80964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Choose an activity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Oval 1"/>
          <p:cNvSpPr/>
          <p:nvPr/>
        </p:nvSpPr>
        <p:spPr>
          <a:xfrm>
            <a:off x="3048120" y="3641760"/>
            <a:ext cx="4938480" cy="151596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399960" y="5859360"/>
            <a:ext cx="2354400" cy="12160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3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26960" y="7736040"/>
            <a:ext cx="2354400" cy="121428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Step 4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468600" y="5859360"/>
            <a:ext cx="4097520" cy="81144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Upfront material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3468600" y="7736040"/>
            <a:ext cx="4097520" cy="1082520"/>
          </a:xfrm>
          <a:prstGeom prst="rect">
            <a:avLst/>
          </a:prstGeom>
          <a:solidFill>
            <a:srgbClr val="f2f2f2"/>
          </a:solidFill>
          <a:ln w="9360">
            <a:solidFill>
              <a:srgbClr val="bfbfbf"/>
            </a:solidFill>
            <a:miter/>
          </a:ln>
          <a:effectLst>
            <a:outerShdw dist="648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Agenda / Visuals / Debrief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Pick your post it 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C5E-71F7-4AB2-9B3A-89949D9CC06B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5" name="Content Placeholder 4" descr="post-it-notes-crazy-awesome-office-prank-2.jpg"/>
          <p:cNvPicPr/>
          <p:nvPr/>
        </p:nvPicPr>
        <p:blipFill>
          <a:blip r:embed="rId1"/>
          <a:srcRect l="0" t="14684" r="0" b="14684"/>
          <a:stretch/>
        </p:blipFill>
        <p:spPr>
          <a:xfrm>
            <a:off x="406440" y="2971800"/>
            <a:ext cx="121921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831960" y="2895480"/>
            <a:ext cx="6813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Know your audie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Choose your topic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Personal work ti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Debrief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A15-105C-4F83-B6DE-D34FCCBF8560}" type="slidenum">
              <a:rPr b="0" lang="en-US" sz="1200" spc="-1" strike="noStrike">
                <a:solidFill>
                  <a:srgbClr val="56565a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650880" y="2058840"/>
            <a:ext cx="117028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marL="730080" indent="-730080">
              <a:lnSpc>
                <a:spcPct val="100000"/>
              </a:lnSpc>
              <a:spcBef>
                <a:spcPts val="3413"/>
              </a:spcBef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65a"/>
                </a:solidFill>
                <a:latin typeface="Calibri"/>
              </a:rPr>
              <a:t>Learn how to tailor your training to different audien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lnSpc>
                <a:spcPct val="100000"/>
              </a:lnSpc>
              <a:spcBef>
                <a:spcPts val="3413"/>
              </a:spcBef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65a"/>
                </a:solidFill>
                <a:latin typeface="Calibri"/>
              </a:rPr>
              <a:t>Recognize the importance of hands-on experiences within your technical trainin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lnSpc>
                <a:spcPct val="100000"/>
              </a:lnSpc>
              <a:spcBef>
                <a:spcPts val="3413"/>
              </a:spcBef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65a"/>
                </a:solidFill>
                <a:latin typeface="Calibri"/>
              </a:rPr>
              <a:t>Pick your topic and learning objectives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lnSpc>
                <a:spcPct val="100000"/>
              </a:lnSpc>
              <a:spcBef>
                <a:spcPts val="3413"/>
              </a:spcBef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880" y="325440"/>
            <a:ext cx="11702880" cy="86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Let’s look back at the Goals for this session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Personal Work Tim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C2BC-9389-4E49-88FB-BCA5440CE28F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4292640" y="2895480"/>
            <a:ext cx="40482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31960" y="2895480"/>
            <a:ext cx="6813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Know your audie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Choose your topic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Personal work ti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B37-86CF-45B6-A8BA-803F86862590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200" y="325440"/>
            <a:ext cx="1170468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Share your learning objective and acvitiy 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3759120" y="2286000"/>
            <a:ext cx="5191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Questions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EB35-1E19-4C89-95AA-AEE72946EA17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835440" y="2590920"/>
            <a:ext cx="654840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Screen Shot 2014-01-24 at 11.19.50 AM.png"/>
          <p:cNvPicPr/>
          <p:nvPr/>
        </p:nvPicPr>
        <p:blipFill>
          <a:blip r:embed="rId1"/>
          <a:stretch/>
        </p:blipFill>
        <p:spPr>
          <a:xfrm>
            <a:off x="2844720" y="914400"/>
            <a:ext cx="764064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Lunch! 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B725-308E-48AB-B093-5B3317CC406E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6" name="Picture 6" descr="Puppy16.jpg"/>
          <p:cNvPicPr/>
          <p:nvPr/>
        </p:nvPicPr>
        <p:blipFill>
          <a:blip r:embed="rId1"/>
          <a:stretch/>
        </p:blipFill>
        <p:spPr>
          <a:xfrm>
            <a:off x="4521240" y="2438280"/>
            <a:ext cx="3600360" cy="59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51040_602669184720_1857500127_n.jpg"/>
          <p:cNvPicPr/>
          <p:nvPr/>
        </p:nvPicPr>
        <p:blipFill>
          <a:blip r:embed="rId1"/>
          <a:stretch/>
        </p:blipFill>
        <p:spPr>
          <a:xfrm>
            <a:off x="1930320" y="18288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54360" y="205740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Learn how to tailor your training to different audiences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Goals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863640" y="331956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863640" y="469116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854360" y="324324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Recognize the importance of hands-on experiences within your technical training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854360" y="469116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Pick your topic and learning objectiv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Oval 36"/>
          <p:cNvSpPr/>
          <p:nvPr/>
        </p:nvSpPr>
        <p:spPr>
          <a:xfrm>
            <a:off x="863640" y="205740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31960" y="2895480"/>
            <a:ext cx="6813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Know your audie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Choose your topic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Personal work ti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dbd9d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bd9d6"/>
                </a:solidFill>
                <a:latin typeface="Arial"/>
                <a:ea typeface="MS PGothic"/>
              </a:rPr>
              <a:t>Debrief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156-3148-4C0F-869C-75553CE95209}" type="slidenum">
              <a:rPr b="0" lang="en-US" sz="1200" spc="-1" strike="noStrike">
                <a:solidFill>
                  <a:srgbClr val="56565a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880" y="325440"/>
            <a:ext cx="11702880" cy="86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6565a"/>
                </a:solidFill>
                <a:latin typeface="Arial"/>
              </a:rPr>
              <a:t>         </a:t>
            </a:r>
            <a:r>
              <a:rPr b="1" lang="en-US" sz="3900" spc="-1" strike="noStrike">
                <a:solidFill>
                  <a:srgbClr val="56565a"/>
                </a:solidFill>
                <a:latin typeface="Arial"/>
              </a:rPr>
              <a:t>Soft Skills                vs                Hard Skills</a:t>
            </a:r>
            <a:endParaRPr b="1" lang="en-US" sz="39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586640" y="2166840"/>
            <a:ext cx="4799160" cy="4132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rcRect l="0" t="12755" r="12076" b="13951"/>
          <a:stretch/>
        </p:blipFill>
        <p:spPr>
          <a:xfrm>
            <a:off x="784080" y="2166840"/>
            <a:ext cx="3784680" cy="42069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550800" y="7261200"/>
            <a:ext cx="11835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Gill Sans"/>
              </a:rPr>
              <a:t>“</a:t>
            </a:r>
            <a:r>
              <a:rPr b="1" lang="en-US" sz="6000" spc="-1" strike="noStrike">
                <a:solidFill>
                  <a:srgbClr val="1f497d"/>
                </a:solidFill>
                <a:latin typeface="Gill Sans"/>
              </a:rPr>
              <a:t>I do.   We do.   You do.”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F7C-4C47-423F-8E0A-7244BAE55714}" type="slidenum">
              <a:rPr b="0" lang="en-US" sz="1200" spc="-1" strike="noStrike">
                <a:solidFill>
                  <a:srgbClr val="56565a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880" y="325440"/>
            <a:ext cx="11702880" cy="86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Hands-on Exercise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39960" y="1523880"/>
            <a:ext cx="749916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TextBox 8"/>
          <p:cNvSpPr/>
          <p:nvPr/>
        </p:nvSpPr>
        <p:spPr>
          <a:xfrm>
            <a:off x="1647720" y="7802640"/>
            <a:ext cx="97092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spcBef>
                <a:spcPts val="34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1f497d"/>
                </a:solidFill>
                <a:latin typeface="Calibri"/>
              </a:rPr>
              <a:t>Plan ahead for log-in and setup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5" name="Picture 1" descr="Screen Shot 2014-01-24 at 11.51.58 AM.png"/>
          <p:cNvPicPr/>
          <p:nvPr/>
        </p:nvPicPr>
        <p:blipFill>
          <a:blip r:embed="rId2"/>
          <a:stretch/>
        </p:blipFill>
        <p:spPr>
          <a:xfrm>
            <a:off x="5054760" y="5181480"/>
            <a:ext cx="7010280" cy="258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995-29D6-4395-B057-E3FA5CCC81AA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628560" y="2058840"/>
            <a:ext cx="11835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Gill Sans"/>
              </a:rPr>
              <a:t>The Techno-phob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Straight Connector 5"/>
          <p:cNvSpPr/>
          <p:nvPr/>
        </p:nvSpPr>
        <p:spPr>
          <a:xfrm>
            <a:off x="628560" y="2822400"/>
            <a:ext cx="11835000" cy="0"/>
          </a:xfrm>
          <a:prstGeom prst="line">
            <a:avLst/>
          </a:prstGeom>
          <a:ln w="19080">
            <a:solidFill>
              <a:srgbClr val="7f7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200" y="325440"/>
            <a:ext cx="1170468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The people you meet while training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461280" y="3033720"/>
            <a:ext cx="5960880" cy="26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Potential Problem</a:t>
            </a:r>
            <a:endParaRPr b="0" lang="en-US" sz="3700" spc="-1" strike="noStrike">
              <a:solidFill>
                <a:srgbClr val="56565a"/>
              </a:solidFill>
              <a:latin typeface="Arial"/>
            </a:endParaRPr>
          </a:p>
          <a:p>
            <a:pPr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0" lang="en-US" sz="3700" spc="-1" strike="noStrike">
                <a:solidFill>
                  <a:srgbClr val="1f497d"/>
                </a:solidFill>
                <a:latin typeface="Arial"/>
              </a:rPr>
              <a:t>I have no idea what you’re talking about.”</a:t>
            </a:r>
            <a:endParaRPr b="0" lang="en-US" sz="37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1" name="Content Placeholder 3"/>
          <p:cNvSpPr/>
          <p:nvPr/>
        </p:nvSpPr>
        <p:spPr>
          <a:xfrm>
            <a:off x="6284880" y="6048360"/>
            <a:ext cx="639432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rm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buClr>
                <a:srgbClr val="1f497d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Avoid tech term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buClr>
                <a:srgbClr val="1f497d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Use examples &amp; analogi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5440" y="3792600"/>
            <a:ext cx="53532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9320040" y="9232920"/>
            <a:ext cx="3033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BA2B-D618-443D-88ED-0FD1DA9FFE12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628560" y="2058840"/>
            <a:ext cx="11835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Gill Sans"/>
              </a:rPr>
              <a:t>The Ultimate Tech Enthusias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628560" y="2822400"/>
            <a:ext cx="11835000" cy="0"/>
          </a:xfrm>
          <a:prstGeom prst="line">
            <a:avLst/>
          </a:prstGeom>
          <a:ln w="19080">
            <a:solidFill>
              <a:srgbClr val="7f7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200" y="325440"/>
            <a:ext cx="1170468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6565a"/>
                </a:solidFill>
                <a:latin typeface="Arial"/>
              </a:rPr>
              <a:t>The people you meet while training</a:t>
            </a:r>
            <a:endParaRPr b="1" lang="en-US" sz="43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91280" y="3250800"/>
            <a:ext cx="6284880" cy="26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</a:rPr>
              <a:t>Potential Problem</a:t>
            </a:r>
            <a:endParaRPr b="0" lang="en-US" sz="3700" spc="-1" strike="noStrike">
              <a:solidFill>
                <a:srgbClr val="56565a"/>
              </a:solidFill>
              <a:latin typeface="Arial"/>
            </a:endParaRPr>
          </a:p>
          <a:p>
            <a:pPr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0" lang="en-US" sz="3700" spc="-1" strike="noStrike">
                <a:solidFill>
                  <a:srgbClr val="1f497d"/>
                </a:solidFill>
                <a:latin typeface="Arial"/>
              </a:rPr>
              <a:t>I know Nate Silver.”</a:t>
            </a:r>
            <a:endParaRPr b="0" lang="en-US" sz="37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8" name="Content Placeholder 3"/>
          <p:cNvSpPr/>
          <p:nvPr/>
        </p:nvSpPr>
        <p:spPr>
          <a:xfrm>
            <a:off x="6176880" y="6048360"/>
            <a:ext cx="628668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rmAutofit fontScale="99000"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buClr>
                <a:srgbClr val="1f497d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Keep reasonable expectation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buClr>
                <a:srgbClr val="1f497d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1f497d"/>
                </a:solidFill>
                <a:latin typeface="Arial"/>
                <a:ea typeface="ヒラギノ角ゴ ProN W3"/>
              </a:rPr>
              <a:t>Focus their enthusiasm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74880" y="3236760"/>
            <a:ext cx="3740040" cy="562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y Keegan</dc:creator>
  <dc:description/>
  <cp:keywords/>
  <dc:language>en-US</dc:language>
  <cp:lastModifiedBy>aconavay@ofa.us</cp:lastModifiedBy>
  <dcterms:modified xsi:type="dcterms:W3CDTF">2019-03-05T17:44:42Z</dcterms:modified>
  <cp:revision>72</cp:revision>
  <dc:subject/>
  <dc:title>PowerPoint Presentation</dc:title>
</cp:coreProperties>
</file>