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16F8-3B77-4919-AEAC-FB5BFAF77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ork is licensed under the Creative Commons Attribution-Non Commercial 4.0 International License. To view a copy of this license, visit http://creativecommons.org/licenses/by-nc/4.0/ or send a letter to Creative Commons, PO Box 1866, Mountain View, CA 94042,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FB64-528C-4E4E-ABAD-73E32DA40C1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A63F-65E6-4799-AB0E-14E00EB8E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49FD-2D92-49E7-B8CD-5D7E1CAA6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BC95-368A-41DC-98D5-AB959804C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5443-160D-4505-B711-70F25A145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C791-7C2F-4E91-86B2-98CDE17706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7671-4662-483D-BB31-6DBDCEFC4A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A91DB-1095-4F2C-948A-EC07FFADEA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ECF7-7346-424F-BD6A-99AB4D90CE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ED06-D6ED-4F77-8B5D-6B60679AAD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DAEC-6FB9-4680-B501-47C15DD46C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AAB6-1B99-49F0-B233-CCD0A3214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3DF4-47F0-48D8-B1E7-5C7980166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3BC1-B42F-45A3-99FA-B19A1005DB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5EF7D-69C5-41BC-BA41-67D3E6471C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9167-7A05-4696-AF5C-F9470224A9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B9A0-68F8-4201-881C-2AED9ECC3A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C8DF0-2ABF-4342-B7DD-FD1030A14A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173A-17DC-4650-9DA6-F9ACD3E7A1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7B11-50FF-49B7-96B1-209600E20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E6D9-2D94-4536-AFC5-D949BA2DD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9C4E-D140-407A-974D-2B4A299C3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3AA1-DE34-45DD-A75D-B3797A083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03B7-B560-4F0A-A41A-6F670C3FB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63BF-037E-4690-B0F8-20E93BC38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4845-3678-46A1-8873-868E9D6AEA4C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OFA-logo_horizontal-RGB.eps"/>
          <p:cNvPicPr/>
          <p:nvPr/>
        </p:nvPicPr>
        <p:blipFill>
          <a:blip r:embed="rId3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FEA0-C522-46DE-BF07-9C8F86A110DC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FA-logo_horizontal-RGB.eps"/>
          <p:cNvPicPr/>
          <p:nvPr/>
        </p:nvPicPr>
        <p:blipFill>
          <a:blip r:embed="rId3"/>
          <a:stretch/>
        </p:blipFill>
        <p:spPr>
          <a:xfrm>
            <a:off x="1311120" y="3684600"/>
            <a:ext cx="10373040" cy="1344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3800" y="5486040"/>
            <a:ext cx="1249668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6565a"/>
                </a:solidFill>
                <a:latin typeface="Arial"/>
              </a:rPr>
              <a:t>Preparing to Train, Part 2: Creating a Skeletal Agenda</a:t>
            </a:r>
            <a:br>
              <a:rPr sz="3800"/>
            </a:br>
            <a:r>
              <a:rPr b="0" lang="en-US" sz="3800" spc="-1" strike="noStrike">
                <a:solidFill>
                  <a:srgbClr val="56565a"/>
                </a:solidFill>
                <a:latin typeface="Arial"/>
              </a:rPr>
              <a:t>(Data and Digital Track)</a:t>
            </a:r>
            <a:endParaRPr b="1" lang="en-US" sz="3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3800" y="7543440"/>
            <a:ext cx="1249668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5000"/>
          </a:bodyPr>
          <a:p>
            <a:pPr marL="146520" indent="0" algn="ctr">
              <a:lnSpc>
                <a:spcPct val="7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6565a"/>
                </a:solidFill>
                <a:latin typeface="Arial"/>
              </a:rPr>
              <a:t>Bianca Mounce, Deputy Data Manager, @BiancaPDX </a:t>
            </a:r>
            <a:endParaRPr b="0" lang="en-US" sz="3600" spc="-1" strike="noStrike">
              <a:solidFill>
                <a:srgbClr val="56565a"/>
              </a:solidFill>
              <a:latin typeface="Arial"/>
            </a:endParaRPr>
          </a:p>
          <a:p>
            <a:pPr marL="146520" indent="0" algn="ctr">
              <a:lnSpc>
                <a:spcPct val="6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6565a"/>
                </a:solidFill>
                <a:latin typeface="Arial"/>
              </a:rPr>
              <a:t>Han Nguyen, State Digital Programs Manager, @hanseldee</a:t>
            </a:r>
            <a:endParaRPr b="0" lang="en-US" sz="36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33" name="Picture 3" descr="A drawing of a face&#10;&#10;Description automatically generated"/>
          <p:cNvPicPr/>
          <p:nvPr/>
        </p:nvPicPr>
        <p:blipFill>
          <a:blip r:embed="rId1"/>
          <a:stretch/>
        </p:blipFill>
        <p:spPr>
          <a:xfrm>
            <a:off x="11226960" y="90108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831960" y="2709720"/>
            <a:ext cx="1138536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Remember your goal: Knowledge, Skill, Attitu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Make space for a needs assessment: survey, raise of h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Incorporating 60% Learning Activity: hands-on tech trainings are so importa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Give necessary tools ahead of time: Do they need 1 pagers? Twitter accounts? VAN login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Have enough time! Do not cut out the experiential learning cycle or an extensive debrie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787320" y="762120"/>
            <a:ext cx="1143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How to create a great tech agenda: </a:t>
            </a: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MS PGothic"/>
              </a:rPr>
              <a:t>ensure to include all the pieces of an ideal modu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my Keegan</dc:creator>
  <dc:description/>
  <cp:keywords/>
  <dc:language>en-US</dc:language>
  <cp:lastModifiedBy>aconavay@ofa.us</cp:lastModifiedBy>
  <dcterms:modified xsi:type="dcterms:W3CDTF">2019-03-05T17:50:49Z</dcterms:modified>
  <cp:revision>73</cp:revision>
  <dc:subject/>
  <dc:title>PowerPoint Presentation</dc:title>
</cp:coreProperties>
</file>