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F04F-7EFB-45F4-AC46-2D766FFC49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8EED-BF8C-4985-8C43-9209437E1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work is licensed under the Creative Commons Attribution-Non Commercial 4.0 International License. To view a copy of this license, visit http://creativecommons.org/licenses/by-nc/4.0/ or send a letter to Creative Commons, PO Box 1866, Mountain View, CA 94042, U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264C-2BA3-4D9D-8E51-BBF8A15BCB5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F654-A86E-4CBC-9438-275807B3501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B7C80-F78D-47C7-B872-224E8857AF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D355A-0118-41D0-8AD5-CAFA2AB38C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D7E5D-DEA6-4533-98D4-2644BFDE04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28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5044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6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28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5044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BF5D6-C5F5-4EEF-8395-F73666451F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DA77D-0F86-4248-B5A2-6B02A54400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BE652-53B6-4355-8FF4-E4B15F7AD2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29B79-7871-415A-A3B1-50353EE884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A0C50-F963-48F5-A433-2D1DBAC5D9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FD06C-3C54-43F4-8046-40BE9909F1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080" y="1066680"/>
            <a:ext cx="1219212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C14C2-3A86-47BE-A7AA-9BF8B6F13F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EC97D-2B49-4041-9A0D-4626FB1C9D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80964-E329-41F8-90F7-947DA31A13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E3571-8942-439D-AE88-BF4E4BFCD9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0B774-ACFB-47CE-9FFF-6EE1323747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1ED4E-8837-4774-A881-F0074E88C0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BB80A-E3A0-4F7B-90A7-75B325F77C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28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65044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6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528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65044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95EB4-9C51-456F-8043-783AC75682C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D5BC9-73CA-4D5F-AA83-DAB87FF5B9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06080" y="1066680"/>
            <a:ext cx="1219212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28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65044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06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528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865044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6D4B1-2AC2-4C7D-95FA-507E8B4FA6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13806-E11C-4FAD-8AF5-14DDB95ED4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080" y="1066680"/>
            <a:ext cx="1219212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C5074-0572-48DD-ACA8-26DF4568AE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9DD28-02A5-454A-8204-D3AA3F4DC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957FC-73C8-4D6A-9F3C-DD4019BABE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2F5C1-2B0B-4645-BBF4-EE9216E28D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7448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1" marL="118080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2" marL="1616400" indent="-48384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3" marL="20516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4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5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6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0" y="0"/>
            <a:ext cx="13004640" cy="76320"/>
          </a:xfrm>
          <a:prstGeom prst="rect">
            <a:avLst/>
          </a:prstGeom>
          <a:solidFill>
            <a:srgbClr val="d02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565a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AAD6-61FE-4EB4-944A-7ACB8980769B}" type="slidenum">
              <a:rPr b="0" lang="en-US" sz="1200" spc="-1" strike="noStrike">
                <a:solidFill>
                  <a:srgbClr val="56565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OFA-logo_horizontal-RGB.eps"/>
          <p:cNvPicPr/>
          <p:nvPr/>
        </p:nvPicPr>
        <p:blipFill>
          <a:blip r:embed="rId2"/>
          <a:stretch/>
        </p:blipFill>
        <p:spPr>
          <a:xfrm>
            <a:off x="787320" y="8937720"/>
            <a:ext cx="3353040" cy="43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0"/>
            <a:ext cx="13004640" cy="76320"/>
          </a:xfrm>
          <a:prstGeom prst="rect">
            <a:avLst/>
          </a:prstGeom>
          <a:solidFill>
            <a:srgbClr val="d02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" name="Picture 5" descr="OFA-logo_horizontal-RGB.eps"/>
          <p:cNvPicPr/>
          <p:nvPr/>
        </p:nvPicPr>
        <p:blipFill>
          <a:blip r:embed="rId2"/>
          <a:stretch/>
        </p:blipFill>
        <p:spPr>
          <a:xfrm>
            <a:off x="787320" y="8937720"/>
            <a:ext cx="3353040" cy="434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OFA-logo_horizontal-RGB.eps"/>
          <p:cNvPicPr/>
          <p:nvPr/>
        </p:nvPicPr>
        <p:blipFill>
          <a:blip r:embed="rId3"/>
          <a:stretch/>
        </p:blipFill>
        <p:spPr>
          <a:xfrm>
            <a:off x="787320" y="8937720"/>
            <a:ext cx="3353040" cy="434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7448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1" marL="118080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2" marL="1616400" indent="-48384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3" marL="20516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4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5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6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565a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D511-A573-4A7B-99F1-EC8D8A0D4B6E}" type="slidenum">
              <a:rPr b="0" lang="en-US" sz="1200" spc="-1" strike="noStrike">
                <a:solidFill>
                  <a:srgbClr val="56565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0" y="0"/>
            <a:ext cx="13004640" cy="76320"/>
          </a:xfrm>
          <a:prstGeom prst="rect">
            <a:avLst/>
          </a:prstGeom>
          <a:solidFill>
            <a:srgbClr val="d02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4" name="Picture 5" descr="OFA-logo_horizontal-RGB.eps"/>
          <p:cNvPicPr/>
          <p:nvPr/>
        </p:nvPicPr>
        <p:blipFill>
          <a:blip r:embed="rId2"/>
          <a:stretch/>
        </p:blipFill>
        <p:spPr>
          <a:xfrm>
            <a:off x="787320" y="8937720"/>
            <a:ext cx="3353040" cy="434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OFA-logo_horizontal-RGB.eps"/>
          <p:cNvPicPr/>
          <p:nvPr/>
        </p:nvPicPr>
        <p:blipFill>
          <a:blip r:embed="rId3"/>
          <a:stretch/>
        </p:blipFill>
        <p:spPr>
          <a:xfrm>
            <a:off x="1311120" y="3684600"/>
            <a:ext cx="10373040" cy="1344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7448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1" marL="118080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2" marL="1616400" indent="-48384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3" marL="20516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4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5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6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3800" y="5791320"/>
            <a:ext cx="12496680" cy="1676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Our Training Philosophy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3800" y="7620120"/>
            <a:ext cx="124966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6565a"/>
                </a:solidFill>
                <a:latin typeface="Arial"/>
              </a:rPr>
              <a:t>Ashley Pinedo</a:t>
            </a:r>
            <a:endParaRPr b="0" lang="en-US" sz="3600" spc="-1" strike="noStrike">
              <a:solidFill>
                <a:srgbClr val="56565a"/>
              </a:solidFill>
              <a:latin typeface="Arial"/>
            </a:endParaRPr>
          </a:p>
        </p:txBody>
      </p:sp>
      <p:pic>
        <p:nvPicPr>
          <p:cNvPr id="133" name="Picture 3" descr="A drawing of a face&#10;&#10;Description automatically generated"/>
          <p:cNvPicPr/>
          <p:nvPr/>
        </p:nvPicPr>
        <p:blipFill>
          <a:blip r:embed="rId1"/>
          <a:stretch/>
        </p:blipFill>
        <p:spPr>
          <a:xfrm>
            <a:off x="11226960" y="9010800"/>
            <a:ext cx="1218960" cy="4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Key Principles of Adult Learning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06080" y="3962520"/>
            <a:ext cx="12192120" cy="4876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60320" indent="-49356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Adults don’t learn for the sake of learning – we need to be motivated to learn.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marL="760320" indent="-49356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The best way to motivate adults to learn is to earn the understanding that the content we will learn will solve a problem worth solving.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marL="760320" indent="-49356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Can you think of an example?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66" name="Rounded Rectangle 11"/>
          <p:cNvSpPr/>
          <p:nvPr/>
        </p:nvSpPr>
        <p:spPr>
          <a:xfrm>
            <a:off x="635040" y="2514600"/>
            <a:ext cx="11634840" cy="1181160"/>
          </a:xfrm>
          <a:prstGeom prst="roundRect">
            <a:avLst>
              <a:gd name="adj" fmla="val 14037"/>
            </a:avLst>
          </a:prstGeom>
          <a:solidFill>
            <a:srgbClr val="0094c8"/>
          </a:solidFill>
          <a:ln w="25560">
            <a:solidFill>
              <a:srgbClr val="0c3b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ults approach learning through the lens of problem solving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Key Principles of Adult Learning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68" name="Rounded Rectangle 11"/>
          <p:cNvSpPr/>
          <p:nvPr/>
        </p:nvSpPr>
        <p:spPr>
          <a:xfrm>
            <a:off x="635040" y="2514600"/>
            <a:ext cx="11634840" cy="1181160"/>
          </a:xfrm>
          <a:prstGeom prst="roundRect">
            <a:avLst>
              <a:gd name="adj" fmla="val 14037"/>
            </a:avLst>
          </a:prstGeom>
          <a:solidFill>
            <a:srgbClr val="0094c8"/>
          </a:solidFill>
          <a:ln w="25560">
            <a:solidFill>
              <a:srgbClr val="0c3b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ults have different learning styles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Straight Connector 16"/>
          <p:cNvSpPr/>
          <p:nvPr/>
        </p:nvSpPr>
        <p:spPr>
          <a:xfrm flipH="1">
            <a:off x="6588000" y="3962520"/>
            <a:ext cx="14400" cy="5029200"/>
          </a:xfrm>
          <a:prstGeom prst="line">
            <a:avLst/>
          </a:prstGeom>
          <a:ln w="25560">
            <a:solidFill>
              <a:srgbClr val="027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Straight Connector 17"/>
          <p:cNvSpPr/>
          <p:nvPr/>
        </p:nvSpPr>
        <p:spPr>
          <a:xfrm>
            <a:off x="939960" y="6324480"/>
            <a:ext cx="10972800" cy="0"/>
          </a:xfrm>
          <a:prstGeom prst="line">
            <a:avLst/>
          </a:prstGeom>
          <a:ln w="25560">
            <a:solidFill>
              <a:srgbClr val="027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Rounded Rectangle 13"/>
          <p:cNvSpPr/>
          <p:nvPr/>
        </p:nvSpPr>
        <p:spPr>
          <a:xfrm>
            <a:off x="4368960" y="6477120"/>
            <a:ext cx="2057400" cy="533160"/>
          </a:xfrm>
          <a:prstGeom prst="roundRect">
            <a:avLst>
              <a:gd name="adj" fmla="val 14037"/>
            </a:avLst>
          </a:prstGeom>
          <a:solidFill>
            <a:srgbClr val="0c3b60"/>
          </a:solidFill>
          <a:ln w="25560">
            <a:solidFill>
              <a:srgbClr val="0c3b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ad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Rounded Rectangle 13"/>
          <p:cNvSpPr/>
          <p:nvPr/>
        </p:nvSpPr>
        <p:spPr>
          <a:xfrm>
            <a:off x="6730920" y="5638680"/>
            <a:ext cx="2057400" cy="533520"/>
          </a:xfrm>
          <a:prstGeom prst="roundRect">
            <a:avLst>
              <a:gd name="adj" fmla="val 14037"/>
            </a:avLst>
          </a:prstGeom>
          <a:solidFill>
            <a:srgbClr val="56565a"/>
          </a:solidFill>
          <a:ln w="25560">
            <a:solidFill>
              <a:srgbClr val="0c3b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uditor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ounded Rectangle 13"/>
          <p:cNvSpPr/>
          <p:nvPr/>
        </p:nvSpPr>
        <p:spPr>
          <a:xfrm>
            <a:off x="4368960" y="5638680"/>
            <a:ext cx="2057400" cy="533520"/>
          </a:xfrm>
          <a:prstGeom prst="roundRect">
            <a:avLst>
              <a:gd name="adj" fmla="val 14037"/>
            </a:avLst>
          </a:prstGeom>
          <a:solidFill>
            <a:srgbClr val="d0202e"/>
          </a:solidFill>
          <a:ln w="25560">
            <a:solidFill>
              <a:srgbClr val="0c3b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ounded Rectangle 13"/>
          <p:cNvSpPr/>
          <p:nvPr/>
        </p:nvSpPr>
        <p:spPr>
          <a:xfrm>
            <a:off x="6730920" y="6477120"/>
            <a:ext cx="2057400" cy="533160"/>
          </a:xfrm>
          <a:prstGeom prst="roundRect">
            <a:avLst>
              <a:gd name="adj" fmla="val 14037"/>
            </a:avLst>
          </a:prstGeom>
          <a:solidFill>
            <a:srgbClr val="0094c8"/>
          </a:solidFill>
          <a:ln w="25560">
            <a:solidFill>
              <a:srgbClr val="0c3b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inesthe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711360" y="3962520"/>
            <a:ext cx="5715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buClr>
                <a:srgbClr val="56565a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Arial"/>
              </a:rPr>
              <a:t>Pictures, videos, charts, graph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00000"/>
              </a:lnSpc>
              <a:buClr>
                <a:srgbClr val="56565a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Arial"/>
              </a:rPr>
              <a:t>Slides &amp; handouts w/ graphic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00000"/>
              </a:lnSpc>
              <a:buClr>
                <a:srgbClr val="56565a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Arial"/>
              </a:rPr>
              <a:t>Underlining with different col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00000"/>
              </a:lnSpc>
              <a:buClr>
                <a:srgbClr val="56565a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Arial"/>
              </a:rPr>
              <a:t>Visualiz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6730920" y="3962520"/>
            <a:ext cx="5715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buClr>
                <a:srgbClr val="56565a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Arial"/>
              </a:rPr>
              <a:t>Lectur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00000"/>
              </a:lnSpc>
              <a:buClr>
                <a:srgbClr val="56565a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Arial"/>
              </a:rPr>
              <a:t>Class discuss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00000"/>
              </a:lnSpc>
              <a:buClr>
                <a:srgbClr val="56565a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Arial"/>
              </a:rPr>
              <a:t>Read instructions alou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711360" y="7162920"/>
            <a:ext cx="5715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buClr>
                <a:srgbClr val="56565a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Arial"/>
              </a:rPr>
              <a:t>Reflection workshee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00000"/>
              </a:lnSpc>
              <a:buClr>
                <a:srgbClr val="56565a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Arial"/>
              </a:rPr>
              <a:t>Handouts and Manual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00000"/>
              </a:lnSpc>
              <a:buClr>
                <a:srgbClr val="56565a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Arial"/>
              </a:rPr>
              <a:t>Information searc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00000"/>
              </a:lnSpc>
              <a:buClr>
                <a:srgbClr val="56565a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6730920" y="7162920"/>
            <a:ext cx="5715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buClr>
                <a:srgbClr val="56565a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Arial"/>
              </a:rPr>
              <a:t>Simulations and role play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00000"/>
              </a:lnSpc>
              <a:buClr>
                <a:srgbClr val="56565a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Arial"/>
              </a:rPr>
              <a:t>Real life 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00000"/>
              </a:lnSpc>
              <a:buClr>
                <a:srgbClr val="56565a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Arial"/>
              </a:rPr>
              <a:t>Trying it ou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00000"/>
              </a:lnSpc>
              <a:buClr>
                <a:srgbClr val="56565a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Arial"/>
              </a:rPr>
              <a:t>Gam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Key Principles of Adult Learning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265280" y="4191120"/>
            <a:ext cx="47242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Ideal Training Structure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81" name="Rounded Rectangle 11"/>
          <p:cNvSpPr/>
          <p:nvPr/>
        </p:nvSpPr>
        <p:spPr>
          <a:xfrm>
            <a:off x="635040" y="2514600"/>
            <a:ext cx="11634840" cy="1181160"/>
          </a:xfrm>
          <a:prstGeom prst="roundRect">
            <a:avLst>
              <a:gd name="adj" fmla="val 14037"/>
            </a:avLst>
          </a:prstGeom>
          <a:solidFill>
            <a:srgbClr val="0094c8"/>
          </a:solidFill>
          <a:ln w="25560">
            <a:solidFill>
              <a:srgbClr val="0c3b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ults learn best through experience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2082960" y="5257800"/>
            <a:ext cx="1830240" cy="1668600"/>
          </a:xfrm>
          <a:prstGeom prst="rect">
            <a:avLst/>
          </a:prstGeom>
          <a:solidFill>
            <a:srgbClr val="dbd9d6"/>
          </a:solidFill>
          <a:ln w="9360">
            <a:solidFill>
              <a:srgbClr val="0093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4087800" y="5257800"/>
            <a:ext cx="5057640" cy="1668600"/>
          </a:xfrm>
          <a:prstGeom prst="rect">
            <a:avLst/>
          </a:prstGeom>
          <a:solidFill>
            <a:srgbClr val="d0202e"/>
          </a:solidFill>
          <a:ln w="9360">
            <a:solidFill>
              <a:srgbClr val="0093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9320040" y="5257800"/>
            <a:ext cx="1824120" cy="1668600"/>
          </a:xfrm>
          <a:prstGeom prst="rect">
            <a:avLst/>
          </a:prstGeom>
          <a:solidFill>
            <a:srgbClr val="dbd9d6"/>
          </a:solidFill>
          <a:ln w="9360">
            <a:solidFill>
              <a:srgbClr val="0093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Box 7"/>
          <p:cNvSpPr/>
          <p:nvPr/>
        </p:nvSpPr>
        <p:spPr>
          <a:xfrm>
            <a:off x="2082960" y="7110360"/>
            <a:ext cx="183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565a"/>
                </a:solidFill>
                <a:latin typeface="Arial"/>
              </a:rPr>
              <a:t>20%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565a"/>
                </a:solidFill>
                <a:latin typeface="Arial"/>
              </a:rPr>
              <a:t>Up-Front Conte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5307120" y="7077240"/>
            <a:ext cx="27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565a"/>
                </a:solidFill>
                <a:latin typeface="Arial"/>
              </a:rPr>
              <a:t>60%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565a"/>
                </a:solidFill>
                <a:latin typeface="Arial"/>
              </a:rPr>
              <a:t>Experi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Box 9"/>
          <p:cNvSpPr/>
          <p:nvPr/>
        </p:nvSpPr>
        <p:spPr>
          <a:xfrm>
            <a:off x="9320040" y="7110360"/>
            <a:ext cx="183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565a"/>
                </a:solidFill>
                <a:latin typeface="Arial"/>
              </a:rPr>
              <a:t>20% Debrief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Box 10"/>
          <p:cNvSpPr/>
          <p:nvPr/>
        </p:nvSpPr>
        <p:spPr>
          <a:xfrm>
            <a:off x="4087800" y="574740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earning happens here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Straight Connector 12"/>
          <p:cNvSpPr/>
          <p:nvPr/>
        </p:nvSpPr>
        <p:spPr>
          <a:xfrm>
            <a:off x="2082960" y="4951440"/>
            <a:ext cx="9144000" cy="0"/>
          </a:xfrm>
          <a:prstGeom prst="line">
            <a:avLst/>
          </a:prstGeom>
          <a:ln w="25560">
            <a:solidFill>
              <a:srgbClr val="5656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831960" y="2362320"/>
            <a:ext cx="6966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  <a:ea typeface="MS PGothic"/>
              </a:rPr>
              <a:t>Introduction and Goal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  <a:ea typeface="MS PGothic"/>
              </a:rPr>
              <a:t>Why Training Matter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  <a:ea typeface="MS PGothic"/>
              </a:rPr>
              <a:t>What Makes Good Training?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  <a:ea typeface="MS PGothic"/>
              </a:rPr>
              <a:t>Building Curriculum for Adult Learner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  <a:ea typeface="MS PGothic"/>
              </a:rPr>
              <a:t>Debrief and Closing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Box 1"/>
          <p:cNvSpPr/>
          <p:nvPr/>
        </p:nvSpPr>
        <p:spPr>
          <a:xfrm>
            <a:off x="787320" y="762120"/>
            <a:ext cx="1143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  <a:ea typeface="Arial"/>
              </a:rPr>
              <a:t>Agenda for This Sess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1"/>
          <a:stretch/>
        </p:blipFill>
        <p:spPr>
          <a:xfrm>
            <a:off x="7988400" y="2895480"/>
            <a:ext cx="430524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" dur="indefinite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We approach curriculum building with these key principles in mind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pic>
        <p:nvPicPr>
          <p:cNvPr id="194" name="Diagram 9" descr=""/>
          <p:cNvPicPr/>
          <p:nvPr/>
        </p:nvPicPr>
        <p:blipFill>
          <a:blip r:embed="rId1"/>
          <a:stretch/>
        </p:blipFill>
        <p:spPr>
          <a:xfrm>
            <a:off x="-1041480" y="2654280"/>
            <a:ext cx="15392520" cy="58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831960" y="2362320"/>
            <a:ext cx="6966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  <a:ea typeface="MS PGothic"/>
              </a:rPr>
              <a:t>Introduction and Goal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  <a:ea typeface="MS PGothic"/>
              </a:rPr>
              <a:t>Why Training Matter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  <a:ea typeface="MS PGothic"/>
              </a:rPr>
              <a:t>What Makes Good Training?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  <a:ea typeface="MS PGothic"/>
              </a:rPr>
              <a:t>Building Curriculum for Adult Learner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  <a:ea typeface="MS PGothic"/>
              </a:rPr>
              <a:t>Debrief and Closing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Box 1"/>
          <p:cNvSpPr/>
          <p:nvPr/>
        </p:nvSpPr>
        <p:spPr>
          <a:xfrm>
            <a:off x="787320" y="762120"/>
            <a:ext cx="1143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  <a:ea typeface="Arial"/>
              </a:rPr>
              <a:t>Agenda for This Sess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7" name="Picture 7" descr=""/>
          <p:cNvPicPr/>
          <p:nvPr/>
        </p:nvPicPr>
        <p:blipFill>
          <a:blip r:embed="rId1"/>
          <a:stretch/>
        </p:blipFill>
        <p:spPr>
          <a:xfrm>
            <a:off x="7988400" y="2895480"/>
            <a:ext cx="430524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indefinite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1"/>
          <p:cNvSpPr/>
          <p:nvPr/>
        </p:nvSpPr>
        <p:spPr>
          <a:xfrm>
            <a:off x="787320" y="762120"/>
            <a:ext cx="1143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  <a:ea typeface="Arial"/>
              </a:rPr>
              <a:t>Debrief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592200" y="2514600"/>
            <a:ext cx="11930040" cy="1225440"/>
          </a:xfrm>
          <a:prstGeom prst="rect">
            <a:avLst/>
          </a:prstGeom>
          <a:solidFill>
            <a:srgbClr val="dbd9d6"/>
          </a:solidFill>
          <a:ln w="9360">
            <a:solidFill>
              <a:srgbClr val="0c3b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0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Arial"/>
              </a:rPr>
              <a:t>What is the most important principle of adult learning to keep in mind? </a:t>
            </a:r>
            <a:r>
              <a:rPr b="0" i="1" lang="en-US" sz="2800" spc="-1" strike="noStrike">
                <a:solidFill>
                  <a:srgbClr val="56565a"/>
                </a:solidFill>
                <a:latin typeface="Arial"/>
                <a:ea typeface="Arial"/>
              </a:rPr>
              <a:t>(what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92200" y="4087800"/>
            <a:ext cx="11930040" cy="1225440"/>
          </a:xfrm>
          <a:prstGeom prst="rect">
            <a:avLst/>
          </a:prstGeom>
          <a:solidFill>
            <a:srgbClr val="dbd9d6"/>
          </a:solidFill>
          <a:ln w="9360">
            <a:solidFill>
              <a:srgbClr val="0c3b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0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Arial"/>
              </a:rPr>
              <a:t>How is this different from what you thought coming into this session? </a:t>
            </a:r>
            <a:r>
              <a:rPr b="0" i="1" lang="en-US" sz="2800" spc="-1" strike="noStrike">
                <a:solidFill>
                  <a:srgbClr val="56565a"/>
                </a:solidFill>
                <a:latin typeface="Arial"/>
                <a:ea typeface="Arial"/>
              </a:rPr>
              <a:t>(so what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592200" y="5659560"/>
            <a:ext cx="11930040" cy="1225440"/>
          </a:xfrm>
          <a:prstGeom prst="rect">
            <a:avLst/>
          </a:prstGeom>
          <a:solidFill>
            <a:srgbClr val="dbd9d6"/>
          </a:solidFill>
          <a:ln w="9360">
            <a:solidFill>
              <a:srgbClr val="0c3b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0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Arial"/>
              </a:rPr>
              <a:t>What ideas do you have for making your future trainings more aligned with adult learning principles? </a:t>
            </a:r>
            <a:r>
              <a:rPr b="0" i="1" lang="en-US" sz="2800" spc="-1" strike="noStrike">
                <a:solidFill>
                  <a:srgbClr val="56565a"/>
                </a:solidFill>
                <a:latin typeface="Arial"/>
                <a:ea typeface="Arial"/>
              </a:rPr>
              <a:t>(now what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831960" y="2709720"/>
            <a:ext cx="11385360" cy="51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buClr>
                <a:srgbClr val="5656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MS PGothic"/>
              </a:rPr>
              <a:t>Training is the key to growing, sustaining and strengthening this movement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5656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5656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MS PGothic"/>
              </a:rPr>
              <a:t>Adults learn best through experience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5656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5656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MS PGothic"/>
              </a:rPr>
              <a:t>You can’t teach everything in one training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5656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5656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MS PGothic"/>
              </a:rPr>
              <a:t>When planning a training, first determine the goal, then plan the activity, and let everything else flow from there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Box 1"/>
          <p:cNvSpPr/>
          <p:nvPr/>
        </p:nvSpPr>
        <p:spPr>
          <a:xfrm>
            <a:off x="787320" y="762120"/>
            <a:ext cx="1143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  <a:ea typeface="Arial"/>
              </a:rPr>
              <a:t>Key takeaway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1"/>
          <p:cNvSpPr/>
          <p:nvPr/>
        </p:nvSpPr>
        <p:spPr>
          <a:xfrm>
            <a:off x="787320" y="762120"/>
            <a:ext cx="1143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  <a:ea typeface="Arial"/>
              </a:rPr>
              <a:t>Q &amp; 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3835440" y="2895480"/>
            <a:ext cx="6924600" cy="56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1930320" y="2862360"/>
            <a:ext cx="102870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MS PGothic"/>
              </a:rPr>
              <a:t>Understand the role training plays in the success of OFA and any progressive organiz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Box 1"/>
          <p:cNvSpPr/>
          <p:nvPr/>
        </p:nvSpPr>
        <p:spPr>
          <a:xfrm>
            <a:off x="787320" y="762120"/>
            <a:ext cx="1143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  <a:ea typeface="Arial"/>
              </a:rPr>
              <a:t>Goals for This Sess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Oval 35"/>
          <p:cNvSpPr/>
          <p:nvPr/>
        </p:nvSpPr>
        <p:spPr>
          <a:xfrm>
            <a:off x="863640" y="2862360"/>
            <a:ext cx="762120" cy="761760"/>
          </a:xfrm>
          <a:prstGeom prst="ellipse">
            <a:avLst/>
          </a:prstGeom>
          <a:solidFill>
            <a:srgbClr val="0094c8"/>
          </a:solidFill>
          <a:ln w="25560">
            <a:solidFill>
              <a:srgbClr val="0c3b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Oval 36"/>
          <p:cNvSpPr/>
          <p:nvPr/>
        </p:nvSpPr>
        <p:spPr>
          <a:xfrm>
            <a:off x="863640" y="4389480"/>
            <a:ext cx="762120" cy="762120"/>
          </a:xfrm>
          <a:prstGeom prst="ellipse">
            <a:avLst/>
          </a:prstGeom>
          <a:solidFill>
            <a:srgbClr val="0094c8"/>
          </a:solidFill>
          <a:ln w="25560">
            <a:solidFill>
              <a:srgbClr val="0c3b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Oval 37"/>
          <p:cNvSpPr/>
          <p:nvPr/>
        </p:nvSpPr>
        <p:spPr>
          <a:xfrm>
            <a:off x="863640" y="5786280"/>
            <a:ext cx="762120" cy="762120"/>
          </a:xfrm>
          <a:prstGeom prst="ellipse">
            <a:avLst/>
          </a:prstGeom>
          <a:solidFill>
            <a:srgbClr val="0094c8"/>
          </a:solidFill>
          <a:ln w="25560">
            <a:solidFill>
              <a:srgbClr val="0c3b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Oval 38"/>
          <p:cNvSpPr/>
          <p:nvPr/>
        </p:nvSpPr>
        <p:spPr>
          <a:xfrm>
            <a:off x="863640" y="7238880"/>
            <a:ext cx="762120" cy="762120"/>
          </a:xfrm>
          <a:prstGeom prst="ellipse">
            <a:avLst/>
          </a:prstGeom>
          <a:solidFill>
            <a:srgbClr val="0094c8"/>
          </a:solidFill>
          <a:ln w="25560">
            <a:solidFill>
              <a:srgbClr val="0c3b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1930320" y="4284720"/>
            <a:ext cx="102870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MS PGothic"/>
              </a:rPr>
              <a:t>Understand key principles of adult learn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1930320" y="5732640"/>
            <a:ext cx="1028700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MS PGothic"/>
              </a:rPr>
              <a:t>Know how to build learning activities that cater to different learning sty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1930320" y="7129440"/>
            <a:ext cx="102870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MS PGothic"/>
              </a:rPr>
              <a:t>Have a new perspective you’ll use when planning trainings for oth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831960" y="2362320"/>
            <a:ext cx="6966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  <a:ea typeface="MS PGothic"/>
              </a:rPr>
              <a:t>Introduction and Goal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  <a:ea typeface="MS PGothic"/>
              </a:rPr>
              <a:t>Why Training Matter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  <a:ea typeface="MS PGothic"/>
              </a:rPr>
              <a:t>What Makes Good Training?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  <a:ea typeface="MS PGothic"/>
              </a:rPr>
              <a:t>Building Curriculum for Adult Learner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  <a:ea typeface="MS PGothic"/>
              </a:rPr>
              <a:t>Debrief and Closing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787320" y="762120"/>
            <a:ext cx="1143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  <a:ea typeface="Arial"/>
              </a:rPr>
              <a:t>Agenda for This Sess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7988400" y="2895480"/>
            <a:ext cx="430524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Why is training so important?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60320" indent="-49356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We are a decentralized organization executing complex issue campaigns.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marL="760320" indent="-49356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We need to constantly grow and regenerate, and training is a low-risk entry point for new people to get involved.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marL="760320" indent="-49356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Only through training can we broaden and strengthen the progressive movement.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831960" y="2362320"/>
            <a:ext cx="6966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  <a:ea typeface="MS PGothic"/>
              </a:rPr>
              <a:t>Introduction and Goal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  <a:ea typeface="MS PGothic"/>
              </a:rPr>
              <a:t>Why Training Matter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  <a:ea typeface="MS PGothic"/>
              </a:rPr>
              <a:t>What Makes Good Training?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  <a:ea typeface="MS PGothic"/>
              </a:rPr>
              <a:t>Building Curriculum for Adult Learner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  <a:ea typeface="MS PGothic"/>
              </a:rPr>
              <a:t>Debrief and Closing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787320" y="762120"/>
            <a:ext cx="1143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  <a:ea typeface="Arial"/>
              </a:rPr>
              <a:t>Agenda for This Sess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7988400" y="2895480"/>
            <a:ext cx="430524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What makes a good training good? What makes a bad training bad?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3035160" y="3803760"/>
            <a:ext cx="7277400" cy="36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A/B Test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60320" indent="-49356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ind a partner you haven’t met yet.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marL="760320" indent="-49356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Decide which of you is Partner A, and which of you is Partner B.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marL="760320" indent="-49356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Await further instructions!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Key Principles of Adult Learning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56" name="Rounded Rectangle 11"/>
          <p:cNvSpPr/>
          <p:nvPr/>
        </p:nvSpPr>
        <p:spPr>
          <a:xfrm>
            <a:off x="635040" y="2514600"/>
            <a:ext cx="11634840" cy="1181160"/>
          </a:xfrm>
          <a:prstGeom prst="roundRect">
            <a:avLst>
              <a:gd name="adj" fmla="val 14037"/>
            </a:avLst>
          </a:prstGeom>
          <a:solidFill>
            <a:srgbClr val="0094c8"/>
          </a:solidFill>
          <a:ln w="25560">
            <a:solidFill>
              <a:srgbClr val="0c3b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Learning is incremental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rcRect l="9145" t="14529" r="13142" b="0"/>
          <a:stretch/>
        </p:blipFill>
        <p:spPr>
          <a:xfrm>
            <a:off x="4673520" y="4114800"/>
            <a:ext cx="3886200" cy="50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Key Principles of Adult Learning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59" name="Rounded Rectangle 11"/>
          <p:cNvSpPr/>
          <p:nvPr/>
        </p:nvSpPr>
        <p:spPr>
          <a:xfrm>
            <a:off x="635040" y="2514600"/>
            <a:ext cx="11634840" cy="1181160"/>
          </a:xfrm>
          <a:prstGeom prst="roundRect">
            <a:avLst>
              <a:gd name="adj" fmla="val 14037"/>
            </a:avLst>
          </a:prstGeom>
          <a:solidFill>
            <a:srgbClr val="0094c8"/>
          </a:solidFill>
          <a:ln w="25560">
            <a:solidFill>
              <a:srgbClr val="0c3b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Learning is incremental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>
            <a:grayscl/>
          </a:blip>
          <a:srcRect l="9145" t="14529" r="13142" b="0"/>
          <a:stretch/>
        </p:blipFill>
        <p:spPr>
          <a:xfrm>
            <a:off x="4673520" y="4114800"/>
            <a:ext cx="3886200" cy="5043600"/>
          </a:xfrm>
          <a:prstGeom prst="rect">
            <a:avLst/>
          </a:prstGeom>
          <a:ln w="0">
            <a:noFill/>
          </a:ln>
        </p:spPr>
      </p:pic>
      <p:sp>
        <p:nvSpPr>
          <p:cNvPr id="161" name="Straight Connector 3"/>
          <p:cNvSpPr/>
          <p:nvPr/>
        </p:nvSpPr>
        <p:spPr>
          <a:xfrm flipV="1">
            <a:off x="7645320" y="4571640"/>
            <a:ext cx="0" cy="685800"/>
          </a:xfrm>
          <a:prstGeom prst="line">
            <a:avLst/>
          </a:prstGeom>
          <a:ln w="38160">
            <a:solidFill>
              <a:srgbClr val="d02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Oval 8"/>
          <p:cNvSpPr/>
          <p:nvPr/>
        </p:nvSpPr>
        <p:spPr>
          <a:xfrm>
            <a:off x="7585200" y="5105520"/>
            <a:ext cx="136440" cy="136440"/>
          </a:xfrm>
          <a:prstGeom prst="ellipse">
            <a:avLst/>
          </a:prstGeom>
          <a:solidFill>
            <a:srgbClr val="d02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Oval 10"/>
          <p:cNvSpPr/>
          <p:nvPr/>
        </p:nvSpPr>
        <p:spPr>
          <a:xfrm>
            <a:off x="7585200" y="4435560"/>
            <a:ext cx="136440" cy="136440"/>
          </a:xfrm>
          <a:prstGeom prst="ellipse">
            <a:avLst/>
          </a:prstGeom>
          <a:solidFill>
            <a:srgbClr val="d02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4T00:25:04Z</dcterms:created>
  <dc:creator>Local User</dc:creator>
  <dc:description/>
  <dc:language>en-US</dc:language>
  <cp:lastModifiedBy>aconavay@ofa.us</cp:lastModifiedBy>
  <dcterms:modified xsi:type="dcterms:W3CDTF">2019-03-05T17:40:23Z</dcterms:modified>
  <cp:revision>107</cp:revision>
  <dc:subject/>
  <dc:title>PowerPoint Presentation</dc:title>
</cp:coreProperties>
</file>