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9A6-5DE5-47B6-8909-F5DE2487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ork is licensed under the Creative Commons Attribution-Non Commercial 4.0 International License. To view a copy of this license, visit http://creativecommons.org/licenses/by-nc/4.0/ or send a letter to Creative Commons, PO Box 1866, Mountain View, CA 94042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EAD8-5005-4802-89AD-79F25FC754B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6F1E-4D95-485F-A19F-A69EC3FE8465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6FA7-ABB2-40DA-8594-B9A51FE5D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4DA2-71DE-4D35-9B47-CAFD2AE54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6798-67F4-4934-8D48-740D8956B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3FF2-5890-4D32-B410-FB7C545E6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4CF1-90A1-4770-B6EE-7D2F3999CE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9AB8-FCA1-4756-B0C4-35BAFA87E7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AFB7-4E55-40F9-9779-99BC77931D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A727-89F0-4B36-B52B-456069F5FE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2BB1-4F9A-468B-9A00-A0BB46A623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F45D-2D41-478E-830B-8B797464D4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7B99-114F-4576-BB23-390C3DDD2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78CA-B41C-4FB8-AADE-C5B599483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42F2-B487-4745-8224-2D33183645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E6A4-53E6-46CB-A011-9E4940F708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AA8E-DACA-4170-BEAA-61850ED715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2B9D-5E70-44A4-AFCD-A71B841984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1EEB-8748-4D27-8BA8-0078959AF0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42D5-5F6F-4B93-80BF-E668C894B0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DD4E-259B-4983-A7E6-7CD98D9FA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2100-8E23-47CB-80AB-3EAD1BFA7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E4B2-84F0-49B9-A28F-29F40EC02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96ED-42FE-432F-8F7D-7282A62E9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2501-DC92-4207-9901-4586E24FB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80B3-37B2-4DBC-9BC9-CA1842205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5038-5D3D-48FA-9ECB-4B61088F5B65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FA-logo_horizontal-RGB.eps"/>
          <p:cNvPicPr/>
          <p:nvPr/>
        </p:nvPicPr>
        <p:blipFill>
          <a:blip r:embed="rId3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8C3D-FFE7-41BB-BBA7-4E892A342435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FA-logo_horizontal-RGB.eps"/>
          <p:cNvPicPr/>
          <p:nvPr/>
        </p:nvPicPr>
        <p:blipFill>
          <a:blip r:embed="rId3"/>
          <a:stretch/>
        </p:blipFill>
        <p:spPr>
          <a:xfrm>
            <a:off x="1311120" y="3684600"/>
            <a:ext cx="10373040" cy="134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3800" y="5791320"/>
            <a:ext cx="1249668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Debrief, Next Steps and Closing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3800" y="7620120"/>
            <a:ext cx="124966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6565a"/>
                </a:solidFill>
                <a:latin typeface="Arial"/>
              </a:rPr>
              <a:t>Ashley Pinedo, National Training Director, @ashleyp44</a:t>
            </a:r>
            <a:endParaRPr b="0" lang="en-US" sz="36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33" name="Picture 3" descr="A drawing of a face&#10;&#10;Description automatically generated"/>
          <p:cNvPicPr/>
          <p:nvPr/>
        </p:nvPicPr>
        <p:blipFill>
          <a:blip r:embed="rId1"/>
          <a:stretch/>
        </p:blipFill>
        <p:spPr>
          <a:xfrm>
            <a:off x="11226960" y="90108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Evaluation – Day 5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711360" y="4419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0202e"/>
                </a:solidFill>
                <a:uFillTx/>
                <a:latin typeface="Arial"/>
                <a:ea typeface="ヒラギノ角ゴ ProN W3"/>
              </a:rPr>
              <a:t>bit.ly/ofatrainerstuesda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787320" y="762120"/>
            <a:ext cx="1143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Debrie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521240" y="2286000"/>
            <a:ext cx="40482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yan Griffin</dc:creator>
  <dc:description/>
  <cp:keywords/>
  <dc:language>en-US</dc:language>
  <cp:lastModifiedBy>aconavay@ofa.us</cp:lastModifiedBy>
  <dcterms:modified xsi:type="dcterms:W3CDTF">2019-03-05T18:19:41Z</dcterms:modified>
  <cp:revision>86</cp:revision>
  <dc:subject/>
  <dc:title>PowerPoint Presentation</dc:title>
</cp:coreProperties>
</file>