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4D5F-3326-4E1F-B1A9-C96991772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ork is licensed under the Creative Commons Attribution-Non Commercial 4.0 International License. To view a copy of this license, visit http://creativecommons.org/licenses/by-nc/4.0/ or send a letter to Creative Commons, PO Box 1866, Mountain View, CA 94042,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0577-2A32-48DB-A2D7-0961B2C5090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7ACD-F160-4570-97EB-25FB74724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350E-F3DC-4DCC-9EED-E8250BD71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40BD-1239-477C-8E62-114139EF6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22D8-66D8-4736-B78F-63576080A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AB86E-CB55-4129-B4D4-710435D5F2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7B5A3-AE11-42D2-93F5-2B5CC251E1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163C4-6BA3-4923-8F74-523146ACD4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E095-6153-4EBB-99C1-6C6C9FFF1A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B7284-64D7-45F3-88C9-CD1CE310E5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D4D0-0E4E-4F27-B163-30F8A8BE88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2D67-C7B4-449B-ADDA-F7281E6B12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39C0-361F-4367-BDC3-CF703E8DC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724C3-A74C-4674-A3B7-C72C03890B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91E9-3E77-47EA-B1DC-8852D95890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31116-CAF3-45FA-AB71-6308B32892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8227-3D8E-4837-BE6E-3E0BFD44DE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D58CD-BD68-4EE9-A116-55EB34BD07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215D-C96C-4AC6-A103-5979C5D925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A3F4-8A38-4344-9484-8C30B42E9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824B-E6FB-406B-80D8-332C5B4D6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730C-FCEE-491E-8F42-BF7304D5E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522F-AE89-4864-ACD7-7B135FC23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CB66-8C08-42A3-BD62-F3B7C49E9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DE3A-A5C1-4484-8B48-D9C510FE3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65a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A225-F47F-4D35-9F6D-FF8CC8F57553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OFA-logo_horizontal-RGB.eps"/>
          <p:cNvPicPr/>
          <p:nvPr/>
        </p:nvPicPr>
        <p:blipFill>
          <a:blip r:embed="rId3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65a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944A-2420-4B25-B266-E7C0AEF11928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OFA-logo_horizontal-RGB.eps"/>
          <p:cNvPicPr/>
          <p:nvPr/>
        </p:nvPicPr>
        <p:blipFill>
          <a:blip r:embed="rId3"/>
          <a:stretch/>
        </p:blipFill>
        <p:spPr>
          <a:xfrm>
            <a:off x="1311120" y="3684600"/>
            <a:ext cx="10373040" cy="1344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3800" y="5791320"/>
            <a:ext cx="12496680" cy="167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Welcome and Ice Breaker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3800" y="7620120"/>
            <a:ext cx="124966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6565a"/>
                </a:solidFill>
                <a:latin typeface="Arial"/>
              </a:rPr>
              <a:t>Samantha Goldman, OFA-NH 2012 Training Director</a:t>
            </a:r>
            <a:endParaRPr b="0" lang="en-US" sz="3600" spc="-1" strike="noStrike">
              <a:solidFill>
                <a:srgbClr val="56565a"/>
              </a:solidFill>
              <a:latin typeface="Arial"/>
            </a:endParaRPr>
          </a:p>
        </p:txBody>
      </p:sp>
      <p:pic>
        <p:nvPicPr>
          <p:cNvPr id="133" name="Picture 4" descr="A drawing of a face&#10;&#10;Description automatically generated"/>
          <p:cNvPicPr/>
          <p:nvPr/>
        </p:nvPicPr>
        <p:blipFill>
          <a:blip r:embed="rId1"/>
          <a:stretch/>
        </p:blipFill>
        <p:spPr>
          <a:xfrm>
            <a:off x="11226960" y="9010800"/>
            <a:ext cx="1218960" cy="4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ヒラギノ角ゴ ProN W3"/>
              </a:rPr>
              <a:t>Energizer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3225960" y="2666880"/>
            <a:ext cx="6553080" cy="548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787320" y="3166920"/>
            <a:ext cx="68896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Welcome and Ice Breake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Selling Your Program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Pitch Session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Lunch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Next Steps and Closing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ヒラギノ角ゴ ProN W3"/>
              </a:rPr>
              <a:t>Agenda for Toda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7988400" y="2895480"/>
            <a:ext cx="4305240" cy="498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yan Griffin</dc:creator>
  <dc:description/>
  <cp:keywords/>
  <dc:language>en-US</dc:language>
  <cp:lastModifiedBy>aconavay@ofa.us</cp:lastModifiedBy>
  <dcterms:modified xsi:type="dcterms:W3CDTF">2019-03-05T18:18:55Z</dcterms:modified>
  <cp:revision>86</cp:revision>
  <dc:subject/>
  <dc:title>PowerPoint Presentation</dc:title>
</cp:coreProperties>
</file>