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A91-E5C6-4090-86AF-8755F41C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ork is licensed under the Creative Commons Attribution-Non Commercial 4.0 International License. To view a copy of this license, visit http://creativecommons.org/licenses/by-nc/4.0/ or send a letter to Creative Commons, PO Box 1866, Mountain View, CA 94042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37D0-1F99-4202-A24B-664AC3359A3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FA3B-73E9-45FA-B3BE-10FFCB34D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5BB3-B15C-4FB1-87C7-134413118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3B5C-DB22-4998-831C-10BBEE142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5EBF-F709-4858-89ED-EF0392286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4147-DC77-4848-BBC0-F19FE548FF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AEA5-417F-4977-AD1B-9B705E84ED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2B5C-77FE-4EBD-8761-A5AC056548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B5B5-1638-4DCE-9939-1CF97AD7A9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08EA-F9EC-430D-B6CD-4CC7FBDCD9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480B-8253-4273-9F10-66DB833CF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AC6C-2EAC-4DD7-B5C4-76A4C7A65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4089-EE7B-494D-87EB-712DD977B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7BEA-F446-4BD7-882B-CC02D2080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6AA2-D290-409D-8253-936F2255C2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1CE5-323E-4A19-9BF1-B0F6F454C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B6B7-4D0A-4652-86C8-AAABEE06CB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6662-4873-4083-91A9-F0472137A6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1537-BB1A-47EA-B4D1-BEA46B3339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2808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650440" y="297180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52808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650440" y="6036840"/>
            <a:ext cx="392544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6480-37E5-4707-AAA9-50DC3DB25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BBC4-C45F-4DB2-A3BD-691AF36AA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1066680"/>
            <a:ext cx="1219212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85CF-CC1D-41F6-A57E-4F144EE9C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84E4-C9B1-44A7-840E-0813E6C15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3520" y="603684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457D-D1B0-4CFB-ACF7-F9DA03046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3520" y="2971800"/>
            <a:ext cx="59497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6036840"/>
            <a:ext cx="12192120" cy="27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A1D7-C72E-4FD1-888B-C2C9949C4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A806-6D0D-4973-8A35-1DEC8A5E3E24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FA-logo_horizontal-RGB.eps"/>
          <p:cNvPicPr/>
          <p:nvPr/>
        </p:nvPicPr>
        <p:blipFill>
          <a:blip r:embed="rId3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65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8E82-9C74-4582-AC2E-3CC76EDCB17A}" type="slidenum">
              <a:rPr b="0" lang="en-US" sz="1200" spc="-1" strike="noStrike">
                <a:solidFill>
                  <a:srgbClr val="56565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13004640" cy="76320"/>
          </a:xfrm>
          <a:prstGeom prst="rect">
            <a:avLst/>
          </a:prstGeom>
          <a:solidFill>
            <a:srgbClr val="d02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Picture 5" descr="OFA-logo_horizontal-RGB.eps"/>
          <p:cNvPicPr/>
          <p:nvPr/>
        </p:nvPicPr>
        <p:blipFill>
          <a:blip r:embed="rId2"/>
          <a:stretch/>
        </p:blipFill>
        <p:spPr>
          <a:xfrm>
            <a:off x="787320" y="8937720"/>
            <a:ext cx="335304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FA-logo_horizontal-RGB.eps"/>
          <p:cNvPicPr/>
          <p:nvPr/>
        </p:nvPicPr>
        <p:blipFill>
          <a:blip r:embed="rId3"/>
          <a:stretch/>
        </p:blipFill>
        <p:spPr>
          <a:xfrm>
            <a:off x="1311120" y="3684600"/>
            <a:ext cx="10373040" cy="134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066680"/>
            <a:ext cx="1219212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080" y="2971800"/>
            <a:ext cx="12192120" cy="586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7448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1" marL="118080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2" marL="1616400" indent="-48384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3" marL="20516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4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5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  <a:p>
            <a:pPr lvl="6" marL="2487240" indent="-483480">
              <a:spcBef>
                <a:spcPts val="3801"/>
              </a:spcBef>
              <a:buClr>
                <a:srgbClr val="56565a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656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3800" y="5791320"/>
            <a:ext cx="1249668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</a:rPr>
              <a:t>Preparing to Train, Part 2: Creating a Skeletal Agenda</a:t>
            </a:r>
            <a:br>
              <a:rPr sz="4200"/>
            </a:br>
            <a:r>
              <a:rPr b="0" lang="en-US" sz="4200" spc="-1" strike="noStrike">
                <a:solidFill>
                  <a:srgbClr val="56565a"/>
                </a:solidFill>
                <a:latin typeface="Arial"/>
              </a:rPr>
              <a:t>(Training Director Boot Camp Track)</a:t>
            </a:r>
            <a:endParaRPr b="1" lang="en-US" sz="4200" spc="-1" strike="noStrike">
              <a:solidFill>
                <a:srgbClr val="56565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800" y="8000640"/>
            <a:ext cx="124966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6565a"/>
                </a:solidFill>
                <a:latin typeface="Arial"/>
              </a:rPr>
              <a:t>Samantha Goldman, Training Director OFA-NH 2012</a:t>
            </a:r>
            <a:endParaRPr b="0" lang="en-US" sz="3600" spc="-1" strike="noStrike">
              <a:solidFill>
                <a:srgbClr val="56565a"/>
              </a:solidFill>
              <a:latin typeface="Arial"/>
            </a:endParaRPr>
          </a:p>
        </p:txBody>
      </p:sp>
      <p:pic>
        <p:nvPicPr>
          <p:cNvPr id="133" name="Picture 3" descr="A drawing of a face&#10;&#10;Description automatically generated"/>
          <p:cNvPicPr/>
          <p:nvPr/>
        </p:nvPicPr>
        <p:blipFill>
          <a:blip r:embed="rId1"/>
          <a:stretch/>
        </p:blipFill>
        <p:spPr>
          <a:xfrm>
            <a:off x="11226960" y="90108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930320" y="286236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Goal and Agenda for This Se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863640" y="2438280"/>
            <a:ext cx="762120" cy="762120"/>
          </a:xfrm>
          <a:prstGeom prst="ellipse">
            <a:avLst/>
          </a:prstGeom>
          <a:solidFill>
            <a:srgbClr val="0094c8"/>
          </a:solidFill>
          <a:ln w="255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930320" y="2438280"/>
            <a:ext cx="10287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Write Skeletal Agenda for 30-minute training modul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638840" y="3124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87320" y="3886200"/>
            <a:ext cx="84582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Introduction and Goal: 5 minut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Review 20-60-20 and Q&amp;A: 10 minut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Work on Agenda in Groups: 50 minut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200000"/>
              </a:lnSpc>
              <a:buClr>
                <a:srgbClr val="56565a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6565a"/>
                </a:solidFill>
                <a:latin typeface="Arial"/>
                <a:ea typeface="MS PGothic"/>
              </a:rPr>
              <a:t>Debrief: 10 minut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9550440" y="4191120"/>
            <a:ext cx="320040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Q &amp; 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225960" y="2619360"/>
            <a:ext cx="654840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787320" y="762120"/>
            <a:ext cx="1143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565a"/>
                </a:solidFill>
                <a:latin typeface="Arial"/>
                <a:ea typeface="Arial"/>
              </a:rPr>
              <a:t>Debrie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82760" y="4419720"/>
            <a:ext cx="11930040" cy="122544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REFLECTION: Separately, write down 2 aspects of your agenda that excite you and why, and 2 aspects that you feel unsure about and wh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58720" y="6553080"/>
            <a:ext cx="11930040" cy="122580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SHARE: With your partner, share your reflection and your agend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58720" y="2362320"/>
            <a:ext cx="11930040" cy="1225440"/>
          </a:xfrm>
          <a:prstGeom prst="rect">
            <a:avLst/>
          </a:prstGeom>
          <a:solidFill>
            <a:srgbClr val="dbd9d6"/>
          </a:solidFill>
          <a:ln w="9360">
            <a:solidFill>
              <a:srgbClr val="0c3b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a"/>
                </a:solidFill>
                <a:latin typeface="Arial"/>
                <a:ea typeface="Arial"/>
              </a:rPr>
              <a:t>PAIR UP: Find someone who you have not yet spoken with to be your pa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4673520" y="1905120"/>
            <a:ext cx="3676680" cy="52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y Keegan</dc:creator>
  <dc:description/>
  <cp:keywords/>
  <dc:language>en-US</dc:language>
  <cp:lastModifiedBy>aconavay@ofa.us</cp:lastModifiedBy>
  <dcterms:modified xsi:type="dcterms:W3CDTF">2019-03-05T17:51:28Z</dcterms:modified>
  <cp:revision>70</cp:revision>
  <dc:subject/>
  <dc:title>PowerPoint Presentation</dc:title>
</cp:coreProperties>
</file>