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C47-3662-47B4-8680-1610274B6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6F0-CECD-4859-B056-F283A5CDD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F15-0BFF-42A2-91F0-2A547E6E671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mbs up, down or middle: how well are we doing on each go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2F4-A46A-4785-8FD7-611E65176A1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6CB4-6428-4C89-ADFF-C6A6C87856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38AF-059B-46B8-902D-10E3342AC1D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A993-1303-43D3-AA52-AA942DE00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7566-E8AC-4D4C-A59C-44A145613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0DAB-52AA-429E-9A47-76B89A69D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C7F0-5410-4CA6-AD7D-A939F6935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E43D-598D-47CB-A8CC-EEBBA894D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33E6-D715-4AED-9A76-0008801C72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1FC8-8DD5-4182-B7C7-CD7AD58F1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2C1B-2B09-4CBB-9F7A-D96649416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FC4D-CFB7-41FB-9E4E-8324C2E542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B569-9157-45AE-8BA9-B09F07D937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B034-4D03-472B-BC2C-4509B6276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0234-B0F2-4215-A961-4043EB3FB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7C06-9141-4485-BFA8-A33D18FA09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2DA7-A519-470A-B3A2-1154F5C589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7135-99E8-4E31-958E-FBAB1FD82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762B-B371-4077-8D7A-082582EAC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9BB3-195F-46DC-AD06-BC179B4C07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B2D2-9812-47AF-BF06-E71714313A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FBEA-6AFD-48B1-B918-F51BEC7C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47DD-0783-46EF-8BF0-A646DB2B5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0D42-D639-4FA2-A936-64D3AA270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5169-AA91-4AF2-9135-86362FA9A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21DF-91CE-4D51-9504-99CCA1E40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20B1-83AE-46FC-9C29-350B82B20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EA0-7C21-49E5-8CAC-81DB1160C641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CF5-2B43-48B3-8AE5-68EF78FE0856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Evaluation, Debrief and Clos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620120"/>
            <a:ext cx="124966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2559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Amy Keegan, Training Director, Enroll America, @aekeegan07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Evaluation – Day 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1092240" y="4724280"/>
            <a:ext cx="640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d0202e"/>
                </a:solidFill>
                <a:uFillTx/>
                <a:latin typeface="Arial"/>
                <a:ea typeface="Arial"/>
              </a:rPr>
              <a:t>bit.ly/ofatrainerssaturda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806400" y="42696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Head, Hands, Heart &amp; Fe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6108" t="10020" r="10819" b="14644"/>
          <a:stretch/>
        </p:blipFill>
        <p:spPr>
          <a:xfrm>
            <a:off x="7340760" y="1752480"/>
            <a:ext cx="5349600" cy="7572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30120" y="1500120"/>
            <a:ext cx="2765520" cy="160020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446640" y="1500120"/>
            <a:ext cx="374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hare something you learned or realized tod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24000" y="3346560"/>
            <a:ext cx="2765160" cy="160020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H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440160" y="3346560"/>
            <a:ext cx="37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hare something you felt or experienc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24000" y="5275440"/>
            <a:ext cx="2765160" cy="160020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440160" y="5275440"/>
            <a:ext cx="37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hare how the group supported you or how you want to help others ou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20760" y="7137360"/>
            <a:ext cx="2765520" cy="160020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3436920" y="7137360"/>
            <a:ext cx="3751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hare something you plan on acting on right a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930320" y="251460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Make all participants more effective train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How are we doing on our goal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Oval 35"/>
          <p:cNvSpPr/>
          <p:nvPr/>
        </p:nvSpPr>
        <p:spPr>
          <a:xfrm>
            <a:off x="863640" y="254808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Oval 36"/>
          <p:cNvSpPr/>
          <p:nvPr/>
        </p:nvSpPr>
        <p:spPr>
          <a:xfrm>
            <a:off x="863640" y="397836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Oval 37"/>
          <p:cNvSpPr/>
          <p:nvPr/>
        </p:nvSpPr>
        <p:spPr>
          <a:xfrm>
            <a:off x="863640" y="540720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006640" y="388620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Demonstrate what a strong, well-organized training looks lik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006640" y="533412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Build and strengthen a national community of progressive train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31960" y="2709720"/>
            <a:ext cx="55180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202e"/>
                </a:solidFill>
                <a:latin typeface="Arial"/>
                <a:ea typeface="MS PGothic"/>
              </a:rPr>
              <a:t>HOMEWORK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202e"/>
                </a:solidFill>
                <a:latin typeface="Arial"/>
                <a:ea typeface="MS PGothic"/>
              </a:rPr>
              <a:t>Put the final touches on your training module so you’ll be ready to train tomorrow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Next steps tonigh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7035840" y="3905280"/>
            <a:ext cx="4800600" cy="27432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637080" y="9005760"/>
            <a:ext cx="1857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31960" y="2709720"/>
            <a:ext cx="55180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202e"/>
                </a:solidFill>
                <a:latin typeface="Arial"/>
                <a:ea typeface="MS PGothic"/>
              </a:rPr>
              <a:t>Breakfast at 8:00 AM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202e"/>
                </a:solidFill>
                <a:latin typeface="Arial"/>
                <a:ea typeface="MS PGothic"/>
              </a:rPr>
              <a:t>Program starts at 9:00 AM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202e"/>
                </a:solidFill>
                <a:latin typeface="Arial"/>
                <a:ea typeface="MS PGothic"/>
              </a:rPr>
              <a:t>Be ready to trai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Next steps tomorr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7035840" y="3905280"/>
            <a:ext cx="4800600" cy="2743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3637080" y="9005760"/>
            <a:ext cx="1857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0:25:04Z</dcterms:created>
  <dc:creator>Local User</dc:creator>
  <dc:description/>
  <dc:language>en-US</dc:language>
  <cp:lastModifiedBy>aconavay@ofa.us</cp:lastModifiedBy>
  <dcterms:modified xsi:type="dcterms:W3CDTF">2019-03-05T18:06:31Z</dcterms:modified>
  <cp:revision>107</cp:revision>
  <dc:subject/>
  <dc:title>PowerPoint Presentation</dc:title>
</cp:coreProperties>
</file>